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69D-7D18-4B12-8489-87D81B92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602-1DD4-4251-8E19-72AB9B34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D7F-E5CA-4698-BC97-223862DD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3E2-7B00-4CB0-86EA-96A12BC6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CA8C-328A-4441-96A8-E32B9606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A442-F814-4505-9C17-63CCCE08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2BD6-5429-40C3-9F5F-0FD3056C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FDEC-5268-4CEF-B340-199EBD38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3383-C02F-4052-8A1A-4E172DA0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6561-8397-4560-8797-4FA035DD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C006-3C6B-418B-8CF3-BCA2C288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EAA-7A48-4361-BE52-A8F98D8A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DA97-F042-4BD5-A19B-D1AEC3D2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EE4A-ED00-4E80-B829-F3AE4445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D815-6046-4235-911E-DCB54184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14C1-876E-4B3D-A4D1-076BFAE0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374E-7F1D-4D34-95FB-F2748420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221-1D56-4D23-AB29-A5BF2B3D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06A-E311-494C-9C82-7B4492A8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92E-EDF9-4CC2-825E-E858EDC8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8856-02C3-4E13-90D7-E01AF7C3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AF5-8F12-4A6C-A85A-11C44CF5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893B-9A51-47C0-9BDD-6302C0AA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84D-F537-4D6F-9089-4DDD536E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137B-03DA-4181-8BBA-CD9949E66D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0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0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4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C548-DA16-4265-972F-0BB94269E47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1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1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5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6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4" name="矩形 9"/>
          <p:cNvSpPr/>
          <p:nvPr/>
        </p:nvSpPr>
        <p:spPr>
          <a:xfrm>
            <a:off x="2214720" y="2503440"/>
            <a:ext cx="5500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8" name="矩形 9"/>
          <p:cNvSpPr/>
          <p:nvPr/>
        </p:nvSpPr>
        <p:spPr>
          <a:xfrm>
            <a:off x="2214720" y="2503440"/>
            <a:ext cx="5500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TextBox 3"/>
          <p:cNvSpPr/>
          <p:nvPr/>
        </p:nvSpPr>
        <p:spPr>
          <a:xfrm>
            <a:off x="1042920" y="2349360"/>
            <a:ext cx="739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3.13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养蚕中的数学问题</a:t>
            </a:r>
            <a:endParaRPr b="1" lang="en-US" sz="54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24" name="TextBox 3"/>
          <p:cNvSpPr/>
          <p:nvPr/>
        </p:nvSpPr>
        <p:spPr>
          <a:xfrm>
            <a:off x="650880" y="56988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1" lang="en-US" sz="32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2"/>
          <p:cNvSpPr/>
          <p:nvPr/>
        </p:nvSpPr>
        <p:spPr>
          <a:xfrm>
            <a:off x="714240" y="928800"/>
            <a:ext cx="78584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蚕吐丝的速度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蚕吐丝成茧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蚕所吐的丝可以绕教室几圈？（测量教室的长与宽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75" name="Rectangle 2"/>
          <p:cNvSpPr/>
          <p:nvPr/>
        </p:nvSpPr>
        <p:spPr>
          <a:xfrm>
            <a:off x="1071720" y="2214720"/>
            <a:ext cx="2428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76" name="Rectangle 2"/>
          <p:cNvSpPr/>
          <p:nvPr/>
        </p:nvSpPr>
        <p:spPr>
          <a:xfrm>
            <a:off x="3357720" y="2143080"/>
            <a:ext cx="2428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×60×6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77" name="Rectangle 2"/>
          <p:cNvSpPr/>
          <p:nvPr/>
        </p:nvSpPr>
        <p:spPr>
          <a:xfrm>
            <a:off x="3000240" y="2643120"/>
            <a:ext cx="2428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00×6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78" name="Rectangle 2"/>
          <p:cNvSpPr/>
          <p:nvPr/>
        </p:nvSpPr>
        <p:spPr>
          <a:xfrm>
            <a:off x="3000240" y="3071880"/>
            <a:ext cx="4000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8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厘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79" name="Rectangle 2"/>
          <p:cNvSpPr/>
          <p:nvPr/>
        </p:nvSpPr>
        <p:spPr>
          <a:xfrm>
            <a:off x="3152880" y="3571920"/>
            <a:ext cx="4000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8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8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80" name="Rectangle 2"/>
          <p:cNvSpPr/>
          <p:nvPr/>
        </p:nvSpPr>
        <p:spPr>
          <a:xfrm>
            <a:off x="857160" y="4071960"/>
            <a:ext cx="7572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教室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蚕所吐的丝可以绕教室几圈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81" name="Rectangle 2"/>
          <p:cNvSpPr/>
          <p:nvPr/>
        </p:nvSpPr>
        <p:spPr>
          <a:xfrm>
            <a:off x="2786040" y="4572000"/>
            <a:ext cx="4000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82" name="Rectangle 2"/>
          <p:cNvSpPr/>
          <p:nvPr/>
        </p:nvSpPr>
        <p:spPr>
          <a:xfrm>
            <a:off x="3143160" y="5000760"/>
            <a:ext cx="4000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80÷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圈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83" name="Rectangle 2"/>
          <p:cNvSpPr/>
          <p:nvPr/>
        </p:nvSpPr>
        <p:spPr>
          <a:xfrm>
            <a:off x="928800" y="5643720"/>
            <a:ext cx="7500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如果教室长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，宽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条蚕所吐的丝可以绕教室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圈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2"/>
          <p:cNvSpPr/>
          <p:nvPr/>
        </p:nvSpPr>
        <p:spPr>
          <a:xfrm>
            <a:off x="2643120" y="2990880"/>
            <a:ext cx="3786120" cy="642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列综合算式解答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85" name="Rectangle 2"/>
          <p:cNvSpPr/>
          <p:nvPr/>
        </p:nvSpPr>
        <p:spPr>
          <a:xfrm>
            <a:off x="2286000" y="241920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围巾占所需蚕茧总数的几分之几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pSp>
        <p:nvGrpSpPr>
          <p:cNvPr id="1086" name="组合 31"/>
          <p:cNvGrpSpPr/>
          <p:nvPr/>
        </p:nvGrpSpPr>
        <p:grpSpPr>
          <a:xfrm>
            <a:off x="714240" y="1220760"/>
            <a:ext cx="7858440" cy="1422360"/>
            <a:chOff x="714240" y="1220760"/>
            <a:chExt cx="7858440" cy="1422360"/>
          </a:xfrm>
        </p:grpSpPr>
        <p:sp>
          <p:nvSpPr>
            <p:cNvPr id="1087" name="Rectangle 2"/>
            <p:cNvSpPr/>
            <p:nvPr/>
          </p:nvSpPr>
          <p:spPr>
            <a:xfrm>
              <a:off x="714240" y="1220760"/>
              <a:ext cx="785844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（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用蚕丝做一条领带和一条围巾，共需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70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蚕茧，做一条领带占   。做一条围巾需多少个蚕茧？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1088" name="Object 17"/>
            <p:cNvGraphicFramePr/>
            <p:nvPr/>
          </p:nvGraphicFramePr>
          <p:xfrm>
            <a:off x="4429080" y="1500120"/>
            <a:ext cx="500040" cy="91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9" name="Object 1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29080" y="1500120"/>
                      <a:ext cx="500040" cy="91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90" name="组合 21"/>
          <p:cNvGrpSpPr/>
          <p:nvPr/>
        </p:nvGrpSpPr>
        <p:grpSpPr>
          <a:xfrm>
            <a:off x="3000240" y="3562200"/>
            <a:ext cx="3286440" cy="919440"/>
            <a:chOff x="3000240" y="3562200"/>
            <a:chExt cx="3286440" cy="919440"/>
          </a:xfrm>
        </p:grpSpPr>
        <p:sp>
          <p:nvSpPr>
            <p:cNvPr id="1091" name="Rectangle 2"/>
            <p:cNvSpPr/>
            <p:nvPr/>
          </p:nvSpPr>
          <p:spPr>
            <a:xfrm>
              <a:off x="3000240" y="3695400"/>
              <a:ext cx="328644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70×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－  ）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1092" name="Object 18"/>
            <p:cNvGraphicFramePr/>
            <p:nvPr/>
          </p:nvGraphicFramePr>
          <p:xfrm>
            <a:off x="4786200" y="3562200"/>
            <a:ext cx="500040" cy="91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3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86200" y="3562200"/>
                      <a:ext cx="50004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94" name="组合 22"/>
          <p:cNvGrpSpPr/>
          <p:nvPr/>
        </p:nvGrpSpPr>
        <p:grpSpPr>
          <a:xfrm>
            <a:off x="2643120" y="4205160"/>
            <a:ext cx="3286080" cy="919440"/>
            <a:chOff x="2643120" y="4205160"/>
            <a:chExt cx="3286080" cy="919440"/>
          </a:xfrm>
        </p:grpSpPr>
        <p:sp>
          <p:nvSpPr>
            <p:cNvPr id="1095" name="Rectangle 2"/>
            <p:cNvSpPr/>
            <p:nvPr/>
          </p:nvSpPr>
          <p:spPr>
            <a:xfrm>
              <a:off x="2643120" y="4338360"/>
              <a:ext cx="3286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70×</a:t>
              </a:r>
              <a:endParaRPr b="1" lang="en-US" sz="28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graphicFrame>
          <p:nvGraphicFramePr>
            <p:cNvPr id="1096" name="Object 19"/>
            <p:cNvGraphicFramePr/>
            <p:nvPr/>
          </p:nvGraphicFramePr>
          <p:xfrm>
            <a:off x="3906720" y="4205160"/>
            <a:ext cx="546120" cy="919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97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06720" y="4205160"/>
                      <a:ext cx="5461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8" name="Rectangle 2"/>
          <p:cNvSpPr/>
          <p:nvPr/>
        </p:nvSpPr>
        <p:spPr>
          <a:xfrm>
            <a:off x="2643120" y="4991040"/>
            <a:ext cx="3286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个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2143080" y="5491080"/>
            <a:ext cx="6072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做一条围巾需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蚕茧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2"/>
          <p:cNvSpPr/>
          <p:nvPr/>
        </p:nvSpPr>
        <p:spPr>
          <a:xfrm>
            <a:off x="857160" y="841320"/>
            <a:ext cx="78580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做围巾的面料中含蚕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2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蚕丝可以加工多少千克这种面料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01" name="Rectangle 2"/>
          <p:cNvSpPr/>
          <p:nvPr/>
        </p:nvSpPr>
        <p:spPr>
          <a:xfrm>
            <a:off x="2000160" y="2198520"/>
            <a:ext cx="4786560" cy="642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面料质量    →    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2500200" y="3770280"/>
            <a:ext cx="4786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0÷42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千克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03" name="Rectangle 2"/>
          <p:cNvSpPr/>
          <p:nvPr/>
        </p:nvSpPr>
        <p:spPr>
          <a:xfrm>
            <a:off x="928800" y="4214880"/>
            <a:ext cx="7715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用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克蚕丝可以加工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克这种面料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04" name="Rectangle 2"/>
          <p:cNvSpPr/>
          <p:nvPr/>
        </p:nvSpPr>
        <p:spPr>
          <a:xfrm>
            <a:off x="2000160" y="2984400"/>
            <a:ext cx="4786560" cy="642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克蚕丝    →    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2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2"/>
          <p:cNvSpPr/>
          <p:nvPr/>
        </p:nvSpPr>
        <p:spPr>
          <a:xfrm>
            <a:off x="714240" y="928800"/>
            <a:ext cx="77868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用蚕丝加工领带，要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完成。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加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，完成了计划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照这样计算，可以提前几天完成任务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06" name="Rectangle 2"/>
          <p:cNvSpPr/>
          <p:nvPr/>
        </p:nvSpPr>
        <p:spPr>
          <a:xfrm>
            <a:off x="2786040" y="4000680"/>
            <a:ext cx="3143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07" name="Rectangle 2"/>
          <p:cNvSpPr/>
          <p:nvPr/>
        </p:nvSpPr>
        <p:spPr>
          <a:xfrm>
            <a:off x="2143080" y="2571840"/>
            <a:ext cx="5572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可以提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天完成任务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108" name="Object 10"/>
          <p:cNvGraphicFramePr/>
          <p:nvPr/>
        </p:nvGraphicFramePr>
        <p:xfrm>
          <a:off x="5357880" y="1438200"/>
          <a:ext cx="50004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7880" y="1438200"/>
                    <a:ext cx="50004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0" name="Object 11"/>
          <p:cNvGraphicFramePr/>
          <p:nvPr/>
        </p:nvGraphicFramePr>
        <p:xfrm>
          <a:off x="3832200" y="3071880"/>
          <a:ext cx="145404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32200" y="3071880"/>
                    <a:ext cx="145404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2" name="Rectangle 2"/>
          <p:cNvSpPr/>
          <p:nvPr/>
        </p:nvSpPr>
        <p:spPr>
          <a:xfrm>
            <a:off x="3500280" y="4500720"/>
            <a:ext cx="3143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13" name="Rectangle 2"/>
          <p:cNvSpPr/>
          <p:nvPr/>
        </p:nvSpPr>
        <p:spPr>
          <a:xfrm>
            <a:off x="4214880" y="5000760"/>
            <a:ext cx="1857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14" name="Rectangle 2"/>
          <p:cNvSpPr/>
          <p:nvPr/>
        </p:nvSpPr>
        <p:spPr>
          <a:xfrm>
            <a:off x="4429080" y="5429160"/>
            <a:ext cx="1285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15" name="Rectangle 2"/>
          <p:cNvSpPr/>
          <p:nvPr/>
        </p:nvSpPr>
        <p:spPr>
          <a:xfrm>
            <a:off x="2428920" y="5786280"/>
            <a:ext cx="6000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可以提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天完成任务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2"/>
          <p:cNvSpPr/>
          <p:nvPr/>
        </p:nvSpPr>
        <p:spPr>
          <a:xfrm>
            <a:off x="785880" y="1096920"/>
            <a:ext cx="77868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领带批发商计划将营业额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2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为奖金，如果奖金总数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24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的领带至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少卖出多少条才能兑现这笔奖金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17" name="Rectangle 2"/>
          <p:cNvSpPr/>
          <p:nvPr/>
        </p:nvSpPr>
        <p:spPr>
          <a:xfrm>
            <a:off x="3000240" y="2428920"/>
            <a:ext cx="3786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销售总金额是多少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18" name="Rectangle 2"/>
          <p:cNvSpPr/>
          <p:nvPr/>
        </p:nvSpPr>
        <p:spPr>
          <a:xfrm>
            <a:off x="2428920" y="2928960"/>
            <a:ext cx="5429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2400÷42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2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元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19" name="Rectangle 2"/>
          <p:cNvSpPr/>
          <p:nvPr/>
        </p:nvSpPr>
        <p:spPr>
          <a:xfrm>
            <a:off x="2643120" y="3429000"/>
            <a:ext cx="5000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20000÷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4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条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20" name="Rectangle 2"/>
          <p:cNvSpPr/>
          <p:nvPr/>
        </p:nvSpPr>
        <p:spPr>
          <a:xfrm>
            <a:off x="1428840" y="4000680"/>
            <a:ext cx="6715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条的领带至少卖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4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条才能兑现这笔奖金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2"/>
          <p:cNvSpPr/>
          <p:nvPr/>
        </p:nvSpPr>
        <p:spPr>
          <a:xfrm>
            <a:off x="500040" y="1143000"/>
            <a:ext cx="82152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用所给的四个数填空，把下面这段话补充成一篇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闻报道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     22   45   2000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黑体"/>
              <a:buAutoNum type="arabicPlain" startAt="2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22" name="Rectangle 2"/>
          <p:cNvSpPr/>
          <p:nvPr/>
        </p:nvSpPr>
        <p:spPr>
          <a:xfrm>
            <a:off x="642960" y="3071880"/>
            <a:ext cx="8072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报讯，今年全县蚕桑生产标准化已覆盖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乡镇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行政村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户农户。蚕茧单产由去年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上升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，约增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  )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23" name="Rectangle 2"/>
          <p:cNvSpPr/>
          <p:nvPr/>
        </p:nvSpPr>
        <p:spPr>
          <a:xfrm>
            <a:off x="2286000" y="3929040"/>
            <a:ext cx="100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24" name="Rectangle 2"/>
          <p:cNvSpPr/>
          <p:nvPr/>
        </p:nvSpPr>
        <p:spPr>
          <a:xfrm>
            <a:off x="5429160" y="3929040"/>
            <a:ext cx="1857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0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25" name="Rectangle 2"/>
          <p:cNvSpPr/>
          <p:nvPr/>
        </p:nvSpPr>
        <p:spPr>
          <a:xfrm>
            <a:off x="5929200" y="4572000"/>
            <a:ext cx="1857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26" name="Rectangle 2"/>
          <p:cNvSpPr/>
          <p:nvPr/>
        </p:nvSpPr>
        <p:spPr>
          <a:xfrm>
            <a:off x="1928880" y="521496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2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矩形 4"/>
          <p:cNvSpPr/>
          <p:nvPr/>
        </p:nvSpPr>
        <p:spPr>
          <a:xfrm>
            <a:off x="684360" y="1071720"/>
            <a:ext cx="78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桑园的正南方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处有一个养蚕基地，村庄在桑园东偏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方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处。试用合理的比例尺画出示意图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128" name="Rectangle 2"/>
          <p:cNvSpPr/>
          <p:nvPr/>
        </p:nvSpPr>
        <p:spPr>
          <a:xfrm>
            <a:off x="1071720" y="2428920"/>
            <a:ext cx="5143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比例尺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0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pSp>
        <p:nvGrpSpPr>
          <p:cNvPr id="1129" name="组合 24"/>
          <p:cNvGrpSpPr/>
          <p:nvPr/>
        </p:nvGrpSpPr>
        <p:grpSpPr>
          <a:xfrm>
            <a:off x="2592360" y="2109960"/>
            <a:ext cx="3408840" cy="4177080"/>
            <a:chOff x="2592360" y="2109960"/>
            <a:chExt cx="3408840" cy="4177080"/>
          </a:xfrm>
        </p:grpSpPr>
        <p:cxnSp>
          <p:nvCxnSpPr>
            <p:cNvPr id="1130" name="直接箭头连接符 15"/>
            <p:cNvCxnSpPr/>
            <p:nvPr/>
          </p:nvCxnSpPr>
          <p:spPr>
            <a:xfrm flipH="1">
              <a:off x="4214160" y="2109960"/>
              <a:ext cx="1080" cy="417744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131" name="直接箭头连接符 18"/>
            <p:cNvCxnSpPr/>
            <p:nvPr/>
          </p:nvCxnSpPr>
          <p:spPr>
            <a:xfrm>
              <a:off x="2592360" y="4125600"/>
              <a:ext cx="3409200" cy="370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1132" name="标题 2"/>
          <p:cNvSpPr/>
          <p:nvPr/>
        </p:nvSpPr>
        <p:spPr>
          <a:xfrm>
            <a:off x="3214800" y="4143240"/>
            <a:ext cx="121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桑园</a:t>
            </a:r>
            <a:endParaRPr b="1" lang="en-US" sz="2400" spc="-1" strike="noStrike">
              <a:solidFill>
                <a:srgbClr val="ff0000"/>
              </a:solidFill>
              <a:latin typeface="楷体_GB2312"/>
            </a:endParaRPr>
          </a:p>
        </p:txBody>
      </p:sp>
      <p:grpSp>
        <p:nvGrpSpPr>
          <p:cNvPr id="1133" name="组合 56"/>
          <p:cNvGrpSpPr/>
          <p:nvPr/>
        </p:nvGrpSpPr>
        <p:grpSpPr>
          <a:xfrm>
            <a:off x="4143240" y="4143240"/>
            <a:ext cx="1357560" cy="2071800"/>
            <a:chOff x="4143240" y="4143240"/>
            <a:chExt cx="1357560" cy="2071800"/>
          </a:xfrm>
        </p:grpSpPr>
        <p:grpSp>
          <p:nvGrpSpPr>
            <p:cNvPr id="1134" name="组合 29"/>
            <p:cNvGrpSpPr/>
            <p:nvPr/>
          </p:nvGrpSpPr>
          <p:grpSpPr>
            <a:xfrm>
              <a:off x="4152600" y="4143240"/>
              <a:ext cx="1348200" cy="1857600"/>
              <a:chOff x="4152600" y="4143240"/>
              <a:chExt cx="1348200" cy="1857600"/>
            </a:xfrm>
          </p:grpSpPr>
          <p:grpSp>
            <p:nvGrpSpPr>
              <p:cNvPr id="1135" name="组合 35"/>
              <p:cNvGrpSpPr/>
              <p:nvPr/>
            </p:nvGrpSpPr>
            <p:grpSpPr>
              <a:xfrm>
                <a:off x="4152600" y="4188600"/>
                <a:ext cx="1348200" cy="1800360"/>
                <a:chOff x="4152600" y="4188600"/>
                <a:chExt cx="1348200" cy="1800360"/>
              </a:xfrm>
            </p:grpSpPr>
            <p:sp>
              <p:nvSpPr>
                <p:cNvPr id="1136" name="直接连接符 29"/>
                <p:cNvSpPr/>
                <p:nvPr/>
              </p:nvSpPr>
              <p:spPr>
                <a:xfrm flipV="1">
                  <a:off x="4214520" y="4188600"/>
                  <a:ext cx="0" cy="18003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  <p:sp>
              <p:nvSpPr>
                <p:cNvPr id="1137" name="标题 2"/>
                <p:cNvSpPr/>
                <p:nvPr/>
              </p:nvSpPr>
              <p:spPr>
                <a:xfrm>
                  <a:off x="4152600" y="4399920"/>
                  <a:ext cx="1348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5</a:t>
                  </a:r>
                  <a:r>
                    <a:rPr b="0" lang="zh-CN" sz="20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厘米</a:t>
                  </a:r>
                  <a:endParaRPr b="1" lang="en-US" sz="2000" spc="-1" strike="noStrike">
                    <a:solidFill>
                      <a:srgbClr val="ff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138" name="右大括号 27"/>
              <p:cNvSpPr/>
              <p:nvPr/>
            </p:nvSpPr>
            <p:spPr>
              <a:xfrm flipH="1" rot="10800000">
                <a:off x="4213440" y="4143240"/>
                <a:ext cx="214200" cy="1857600"/>
              </a:xfrm>
              <a:custGeom>
                <a:avLst/>
                <a:gdLst>
                  <a:gd name="textAreaLeft" fmla="*/ 0 w 214200"/>
                  <a:gd name="textAreaRight" fmla="*/ 77400 w 214200"/>
                  <a:gd name="textAreaTop" fmla="*/ 36720 h 1857600"/>
                  <a:gd name="textAreaBottom" fmla="*/ 1820880 h 185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685"/>
                      <a:pt x="10800" y="1370"/>
                    </a:cubicBezTo>
                    <a:lnTo>
                      <a:pt x="10800" y="14188"/>
                    </a:lnTo>
                    <a:cubicBezTo>
                      <a:pt x="10800" y="14873"/>
                      <a:pt x="16200" y="15558"/>
                      <a:pt x="21600" y="15558"/>
                    </a:cubicBezTo>
                    <a:cubicBezTo>
                      <a:pt x="16200" y="15558"/>
                      <a:pt x="10800" y="16243"/>
                      <a:pt x="10800" y="16928"/>
                    </a:cubicBezTo>
                    <a:lnTo>
                      <a:pt x="10800" y="20230"/>
                    </a:lnTo>
                    <a:cubicBezTo>
                      <a:pt x="10800" y="20915"/>
                      <a:pt x="5400" y="21600"/>
                      <a:pt x="0" y="21600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0000"/>
                  </a:solidFill>
                  <a:latin typeface="楷体_GB2312"/>
                </a:endParaRPr>
              </a:p>
            </p:txBody>
          </p:sp>
        </p:grpSp>
        <p:sp>
          <p:nvSpPr>
            <p:cNvPr id="1139" name="标题 2"/>
            <p:cNvSpPr/>
            <p:nvPr/>
          </p:nvSpPr>
          <p:spPr>
            <a:xfrm>
              <a:off x="4143240" y="5757840"/>
              <a:ext cx="134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养蚕基地</a:t>
              </a: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</p:grpSp>
      <p:grpSp>
        <p:nvGrpSpPr>
          <p:cNvPr id="1140" name="组合 55"/>
          <p:cNvGrpSpPr/>
          <p:nvPr/>
        </p:nvGrpSpPr>
        <p:grpSpPr>
          <a:xfrm>
            <a:off x="4214520" y="2214720"/>
            <a:ext cx="3215160" cy="2174400"/>
            <a:chOff x="4214520" y="2214720"/>
            <a:chExt cx="3215160" cy="2174400"/>
          </a:xfrm>
        </p:grpSpPr>
        <p:sp>
          <p:nvSpPr>
            <p:cNvPr id="1141" name="直接连接符 46"/>
            <p:cNvSpPr/>
            <p:nvPr/>
          </p:nvSpPr>
          <p:spPr>
            <a:xfrm flipH="1">
              <a:off x="4214520" y="2428200"/>
              <a:ext cx="2143080" cy="17161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142" name="弧形 50"/>
            <p:cNvSpPr/>
            <p:nvPr/>
          </p:nvSpPr>
          <p:spPr>
            <a:xfrm rot="865800">
              <a:off x="4295520" y="3892680"/>
              <a:ext cx="314280" cy="3078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143" name="标题 2"/>
            <p:cNvSpPr/>
            <p:nvPr/>
          </p:nvSpPr>
          <p:spPr>
            <a:xfrm>
              <a:off x="4441680" y="3629160"/>
              <a:ext cx="1130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0°</a:t>
              </a: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144" name="标题 2"/>
            <p:cNvSpPr/>
            <p:nvPr/>
          </p:nvSpPr>
          <p:spPr>
            <a:xfrm>
              <a:off x="5537160" y="2992680"/>
              <a:ext cx="1346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8</a:t>
              </a: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厘米</a:t>
              </a: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145" name="右大括号 53"/>
            <p:cNvSpPr/>
            <p:nvPr/>
          </p:nvSpPr>
          <p:spPr>
            <a:xfrm flipH="1" rot="13887000">
              <a:off x="5240880" y="2033280"/>
              <a:ext cx="315720" cy="2749680"/>
            </a:xfrm>
            <a:custGeom>
              <a:avLst/>
              <a:gdLst>
                <a:gd name="textAreaLeft" fmla="*/ 0 w 315720"/>
                <a:gd name="textAreaRight" fmla="*/ 114120 w 315720"/>
                <a:gd name="textAreaTop" fmla="*/ 54000 h 2749680"/>
                <a:gd name="textAreaBottom" fmla="*/ 2695680 h 274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682"/>
                    <a:pt x="10800" y="1363"/>
                  </a:cubicBezTo>
                  <a:lnTo>
                    <a:pt x="10800" y="14305"/>
                  </a:lnTo>
                  <a:cubicBezTo>
                    <a:pt x="10800" y="14987"/>
                    <a:pt x="16200" y="15668"/>
                    <a:pt x="21600" y="15668"/>
                  </a:cubicBezTo>
                  <a:cubicBezTo>
                    <a:pt x="16200" y="15668"/>
                    <a:pt x="10800" y="16350"/>
                    <a:pt x="10800" y="17031"/>
                  </a:cubicBezTo>
                  <a:lnTo>
                    <a:pt x="10800" y="20237"/>
                  </a:lnTo>
                  <a:cubicBezTo>
                    <a:pt x="10800" y="20919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  <p:sp>
          <p:nvSpPr>
            <p:cNvPr id="1146" name="标题 2"/>
            <p:cNvSpPr/>
            <p:nvPr/>
          </p:nvSpPr>
          <p:spPr>
            <a:xfrm>
              <a:off x="6081840" y="2214720"/>
              <a:ext cx="1347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村庄</a:t>
              </a:r>
              <a:endParaRPr b="1" lang="en-US" sz="2000" spc="-1" strike="noStrike">
                <a:solidFill>
                  <a:srgbClr val="ff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2"/>
          <p:cNvSpPr/>
          <p:nvPr/>
        </p:nvSpPr>
        <p:spPr>
          <a:xfrm>
            <a:off x="714240" y="1292400"/>
            <a:ext cx="6929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想提出哪些与养蚕有关的数学问题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pic>
        <p:nvPicPr>
          <p:cNvPr id="1026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00040" y="2500200"/>
            <a:ext cx="1679760" cy="18813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160720" y="2571840"/>
            <a:ext cx="2290680" cy="18572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6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4518000" y="2571840"/>
            <a:ext cx="2390760" cy="18572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8" descr=""/>
          <p:cNvPicPr/>
          <p:nvPr/>
        </p:nvPicPr>
        <p:blipFill>
          <a:blip r:embed="rId4"/>
          <a:stretch/>
        </p:blipFill>
        <p:spPr>
          <a:xfrm>
            <a:off x="6905520" y="2143080"/>
            <a:ext cx="1667160" cy="2228760"/>
          </a:xfrm>
          <a:prstGeom prst="rect">
            <a:avLst/>
          </a:prstGeom>
          <a:ln w="0">
            <a:noFill/>
          </a:ln>
        </p:spPr>
      </p:pic>
      <p:sp>
        <p:nvSpPr>
          <p:cNvPr id="1030" name="下弧形箭头 8"/>
          <p:cNvSpPr/>
          <p:nvPr/>
        </p:nvSpPr>
        <p:spPr>
          <a:xfrm>
            <a:off x="1357200" y="4429080"/>
            <a:ext cx="2000520" cy="785880"/>
          </a:xfrm>
          <a:custGeom>
            <a:avLst/>
            <a:gdLst>
              <a:gd name="textAreaLeft" fmla="*/ 426240 w 2000520"/>
              <a:gd name="textAreaRight" fmla="*/ 1476000 w 200052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09" hR="21600" stAng="10800000" swAng="-5400000"/>
                <a:lnTo>
                  <a:pt x="11330" y="21600"/>
                </a:lnTo>
                <a:arcTo wR="9209" hR="21600" stAng="5400000" swAng="-3528020"/>
                <a:lnTo>
                  <a:pt x="21308" y="5400"/>
                </a:lnTo>
                <a:lnTo>
                  <a:pt x="19479" y="0"/>
                </a:lnTo>
                <a:lnTo>
                  <a:pt x="17065" y="5400"/>
                </a:lnTo>
                <a:lnTo>
                  <a:pt x="18126" y="5400"/>
                </a:lnTo>
                <a:arcTo wR="9209" hR="21600" stAng="1871980" swAng="3358244"/>
                <a:lnTo>
                  <a:pt x="10270" y="21456"/>
                </a:lnTo>
                <a:arcTo wR="9209" hR="21600" stAng="5569776" swAng="5230224"/>
                <a:close/>
              </a:path>
              <a:path fill="darkenLess" w="21600" h="21600">
                <a:moveTo>
                  <a:pt x="0" y="0"/>
                </a:moveTo>
                <a:arcTo wR="9209" hR="21600" stAng="10800000" swAng="-5400000"/>
                <a:lnTo>
                  <a:pt x="11330" y="21600"/>
                </a:lnTo>
                <a:arcTo wR="9209" hR="21600" stAng="5400000" swAng="169776"/>
                <a:lnTo>
                  <a:pt x="10270" y="21456"/>
                </a:lnTo>
                <a:arcTo wR="9209" hR="21600" stAng="5569776" swAng="5230224"/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31" name="下弧形箭头 9"/>
          <p:cNvSpPr/>
          <p:nvPr/>
        </p:nvSpPr>
        <p:spPr>
          <a:xfrm>
            <a:off x="3571920" y="4429080"/>
            <a:ext cx="2000160" cy="785880"/>
          </a:xfrm>
          <a:custGeom>
            <a:avLst/>
            <a:gdLst>
              <a:gd name="textAreaLeft" fmla="*/ 426240 w 2000160"/>
              <a:gd name="textAreaRight" fmla="*/ 1475640 w 200016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09" hR="21600" stAng="10800000" swAng="-5400000"/>
                <a:lnTo>
                  <a:pt x="11330" y="21600"/>
                </a:lnTo>
                <a:arcTo wR="9209" hR="21600" stAng="5400000" swAng="-3528020"/>
                <a:lnTo>
                  <a:pt x="21308" y="5400"/>
                </a:lnTo>
                <a:lnTo>
                  <a:pt x="19479" y="0"/>
                </a:lnTo>
                <a:lnTo>
                  <a:pt x="17065" y="5400"/>
                </a:lnTo>
                <a:lnTo>
                  <a:pt x="18126" y="5400"/>
                </a:lnTo>
                <a:arcTo wR="9209" hR="21600" stAng="1871980" swAng="3358244"/>
                <a:lnTo>
                  <a:pt x="10270" y="21456"/>
                </a:lnTo>
                <a:arcTo wR="9209" hR="21600" stAng="5569776" swAng="5230224"/>
                <a:close/>
              </a:path>
              <a:path fill="darkenLess" w="21600" h="21600">
                <a:moveTo>
                  <a:pt x="0" y="0"/>
                </a:moveTo>
                <a:arcTo wR="9209" hR="21600" stAng="10800000" swAng="-5400000"/>
                <a:lnTo>
                  <a:pt x="11330" y="21600"/>
                </a:lnTo>
                <a:arcTo wR="9209" hR="21600" stAng="5400000" swAng="169776"/>
                <a:lnTo>
                  <a:pt x="10270" y="21456"/>
                </a:lnTo>
                <a:arcTo wR="9209" hR="21600" stAng="5569776" swAng="5230224"/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32" name="下弧形箭头 10"/>
          <p:cNvSpPr/>
          <p:nvPr/>
        </p:nvSpPr>
        <p:spPr>
          <a:xfrm>
            <a:off x="5715000" y="4429080"/>
            <a:ext cx="2000160" cy="785880"/>
          </a:xfrm>
          <a:custGeom>
            <a:avLst/>
            <a:gdLst>
              <a:gd name="textAreaLeft" fmla="*/ 426240 w 2000160"/>
              <a:gd name="textAreaRight" fmla="*/ 1475640 w 200016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09" hR="21600" stAng="10800000" swAng="-5400000"/>
                <a:lnTo>
                  <a:pt x="11330" y="21600"/>
                </a:lnTo>
                <a:arcTo wR="9209" hR="21600" stAng="5400000" swAng="-3528020"/>
                <a:lnTo>
                  <a:pt x="21308" y="5400"/>
                </a:lnTo>
                <a:lnTo>
                  <a:pt x="19479" y="0"/>
                </a:lnTo>
                <a:lnTo>
                  <a:pt x="17065" y="5400"/>
                </a:lnTo>
                <a:lnTo>
                  <a:pt x="18126" y="5400"/>
                </a:lnTo>
                <a:arcTo wR="9209" hR="21600" stAng="1871980" swAng="3358244"/>
                <a:lnTo>
                  <a:pt x="10270" y="21456"/>
                </a:lnTo>
                <a:arcTo wR="9209" hR="21600" stAng="5569776" swAng="5230224"/>
                <a:close/>
              </a:path>
              <a:path fill="darkenLess" w="21600" h="21600">
                <a:moveTo>
                  <a:pt x="0" y="0"/>
                </a:moveTo>
                <a:arcTo wR="9209" hR="21600" stAng="10800000" swAng="-5400000"/>
                <a:lnTo>
                  <a:pt x="11330" y="21600"/>
                </a:lnTo>
                <a:arcTo wR="9209" hR="21600" stAng="5400000" swAng="169776"/>
                <a:lnTo>
                  <a:pt x="10270" y="21456"/>
                </a:lnTo>
                <a:arcTo wR="9209" hR="21600" stAng="5569776" swAng="5230224"/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14280" y="2000160"/>
            <a:ext cx="3786480" cy="4257720"/>
          </a:xfrm>
          <a:prstGeom prst="rect">
            <a:avLst/>
          </a:prstGeom>
          <a:ln w="0">
            <a:noFill/>
          </a:ln>
        </p:spPr>
      </p:pic>
      <p:sp>
        <p:nvSpPr>
          <p:cNvPr id="1034" name="Rectangle 2"/>
          <p:cNvSpPr/>
          <p:nvPr/>
        </p:nvSpPr>
        <p:spPr>
          <a:xfrm>
            <a:off x="714240" y="857160"/>
            <a:ext cx="79297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图中的小正方形的边长表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片桑叶的面积大约是多少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35" name="Rectangle 2"/>
          <p:cNvSpPr/>
          <p:nvPr/>
        </p:nvSpPr>
        <p:spPr>
          <a:xfrm>
            <a:off x="5000760" y="2185920"/>
            <a:ext cx="3071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先数满格，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数不满格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36" name="Rectangle 2"/>
          <p:cNvSpPr/>
          <p:nvPr/>
        </p:nvSpPr>
        <p:spPr>
          <a:xfrm>
            <a:off x="5072040" y="3043080"/>
            <a:ext cx="3643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7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平方厘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2"/>
          <p:cNvSpPr/>
          <p:nvPr/>
        </p:nvSpPr>
        <p:spPr>
          <a:xfrm>
            <a:off x="714240" y="857160"/>
            <a:ext cx="78584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蚕体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它的一生消耗了相当于体重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倍左右的桑叶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片桑叶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左右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蚕一生消耗的桑叶大约为多少平方厘米？能铺满一张课桌吗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38" name="Rectangle 2"/>
          <p:cNvSpPr/>
          <p:nvPr/>
        </p:nvSpPr>
        <p:spPr>
          <a:xfrm>
            <a:off x="2000160" y="2244600"/>
            <a:ext cx="5214960" cy="642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条蚕一生消耗的蚕叶有多重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39" name="Rectangle 2"/>
          <p:cNvSpPr/>
          <p:nvPr/>
        </p:nvSpPr>
        <p:spPr>
          <a:xfrm>
            <a:off x="3357720" y="2816280"/>
            <a:ext cx="4214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×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克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40" name="矩形 8"/>
          <p:cNvSpPr/>
          <p:nvPr/>
        </p:nvSpPr>
        <p:spPr>
          <a:xfrm>
            <a:off x="3429000" y="1428840"/>
            <a:ext cx="3214800" cy="428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41" name="Rectangle 2"/>
          <p:cNvSpPr/>
          <p:nvPr/>
        </p:nvSpPr>
        <p:spPr>
          <a:xfrm>
            <a:off x="2000160" y="3387600"/>
            <a:ext cx="5214960" cy="642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条蚕一生消耗的蚕叶数：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3000240" y="3959280"/>
            <a:ext cx="4214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÷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片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43" name="Rectangle 2"/>
          <p:cNvSpPr/>
          <p:nvPr/>
        </p:nvSpPr>
        <p:spPr>
          <a:xfrm>
            <a:off x="1857240" y="4429080"/>
            <a:ext cx="6286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片桑叶的面积大约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7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厘米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44" name="Rectangle 2"/>
          <p:cNvSpPr/>
          <p:nvPr/>
        </p:nvSpPr>
        <p:spPr>
          <a:xfrm>
            <a:off x="2357280" y="4857840"/>
            <a:ext cx="5572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7.5×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12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平方厘米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45" name="Rectangle 2"/>
          <p:cNvSpPr/>
          <p:nvPr/>
        </p:nvSpPr>
        <p:spPr>
          <a:xfrm>
            <a:off x="1857240" y="5357880"/>
            <a:ext cx="55724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条蚕一生消耗的桑叶大约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12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方厘米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2"/>
          <p:cNvSpPr/>
          <p:nvPr/>
        </p:nvSpPr>
        <p:spPr>
          <a:xfrm>
            <a:off x="714240" y="857160"/>
            <a:ext cx="78584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蚕体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它的一生消耗了相当于体重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倍左右的桑叶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片桑叶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左右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蚕一生消耗的桑叶大约为多少平方厘米？能铺满一张课桌吗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47" name="Rectangle 2"/>
          <p:cNvSpPr/>
          <p:nvPr/>
        </p:nvSpPr>
        <p:spPr>
          <a:xfrm>
            <a:off x="2143080" y="2643120"/>
            <a:ext cx="5572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12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方厘米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.12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方分米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48" name="Rectangle 2"/>
          <p:cNvSpPr/>
          <p:nvPr/>
        </p:nvSpPr>
        <p:spPr>
          <a:xfrm>
            <a:off x="2143080" y="3143160"/>
            <a:ext cx="5572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不能铺满一张课桌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2"/>
          <p:cNvSpPr/>
          <p:nvPr/>
        </p:nvSpPr>
        <p:spPr>
          <a:xfrm>
            <a:off x="714240" y="1149480"/>
            <a:ext cx="785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如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棵桑树能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蚕提供所需要的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桑叶，聪聪家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蚕，需要多少棵桑树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50" name="Rectangle 2"/>
          <p:cNvSpPr/>
          <p:nvPr/>
        </p:nvSpPr>
        <p:spPr>
          <a:xfrm>
            <a:off x="2357280" y="2000160"/>
            <a:ext cx="4286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→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棵树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51" name="Rectangle 2"/>
          <p:cNvSpPr/>
          <p:nvPr/>
        </p:nvSpPr>
        <p:spPr>
          <a:xfrm>
            <a:off x="2357280" y="2500200"/>
            <a:ext cx="514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→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？棵树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52" name="Rectangle 2"/>
          <p:cNvSpPr/>
          <p:nvPr/>
        </p:nvSpPr>
        <p:spPr>
          <a:xfrm>
            <a:off x="1571760" y="3071880"/>
            <a:ext cx="7572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聪聪家养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条蚕，需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棵桑树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53" name="Rectangle 2"/>
          <p:cNvSpPr/>
          <p:nvPr/>
        </p:nvSpPr>
        <p:spPr>
          <a:xfrm>
            <a:off x="2857680" y="3500280"/>
            <a:ext cx="378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54" name="Rectangle 2"/>
          <p:cNvSpPr/>
          <p:nvPr/>
        </p:nvSpPr>
        <p:spPr>
          <a:xfrm>
            <a:off x="3571920" y="400068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0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00×124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55" name="Rectangle 2"/>
          <p:cNvSpPr/>
          <p:nvPr/>
        </p:nvSpPr>
        <p:spPr>
          <a:xfrm>
            <a:off x="4286160" y="4429080"/>
            <a:ext cx="378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16000÷6000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56" name="Rectangle 2"/>
          <p:cNvSpPr/>
          <p:nvPr/>
        </p:nvSpPr>
        <p:spPr>
          <a:xfrm>
            <a:off x="4286160" y="4857840"/>
            <a:ext cx="378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6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57" name="Rectangle 2"/>
          <p:cNvSpPr/>
          <p:nvPr/>
        </p:nvSpPr>
        <p:spPr>
          <a:xfrm>
            <a:off x="1214280" y="5286240"/>
            <a:ext cx="6929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聪聪家养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条蚕，需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棵桑树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2"/>
          <p:cNvSpPr/>
          <p:nvPr/>
        </p:nvSpPr>
        <p:spPr>
          <a:xfrm>
            <a:off x="2071800" y="2286000"/>
            <a:ext cx="4857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÷1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2%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59" name="Rectangle 2"/>
          <p:cNvSpPr/>
          <p:nvPr/>
        </p:nvSpPr>
        <p:spPr>
          <a:xfrm>
            <a:off x="714240" y="1000080"/>
            <a:ext cx="76438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佳佳家养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，如果未成活的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，成活率是多少？改进养殖技术后，成活率可以提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改进养殖技术后，可成活多少条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0" name="Rectangle 2"/>
          <p:cNvSpPr/>
          <p:nvPr/>
        </p:nvSpPr>
        <p:spPr>
          <a:xfrm>
            <a:off x="3071880" y="2786040"/>
            <a:ext cx="3571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成活率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2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1" name="Rectangle 2"/>
          <p:cNvSpPr/>
          <p:nvPr/>
        </p:nvSpPr>
        <p:spPr>
          <a:xfrm>
            <a:off x="3071880" y="3286080"/>
            <a:ext cx="3571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2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7%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2" name="Rectangle 2"/>
          <p:cNvSpPr/>
          <p:nvPr/>
        </p:nvSpPr>
        <p:spPr>
          <a:xfrm>
            <a:off x="2357280" y="3786120"/>
            <a:ext cx="5000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00×97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7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条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3" name="Rectangle 2"/>
          <p:cNvSpPr/>
          <p:nvPr/>
        </p:nvSpPr>
        <p:spPr>
          <a:xfrm>
            <a:off x="1643040" y="4286160"/>
            <a:ext cx="6572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改进养殖技术后，可成活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7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条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2"/>
          <p:cNvSpPr/>
          <p:nvPr/>
        </p:nvSpPr>
        <p:spPr>
          <a:xfrm>
            <a:off x="2500200" y="3786120"/>
            <a:ext cx="3571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9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吨）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5" name="Rectangle 2"/>
          <p:cNvSpPr/>
          <p:nvPr/>
        </p:nvSpPr>
        <p:spPr>
          <a:xfrm>
            <a:off x="714240" y="857160"/>
            <a:ext cx="771552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某养蚕专业村养蚕情况如下表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增产多少吨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6" name="Rectangle 2"/>
          <p:cNvSpPr/>
          <p:nvPr/>
        </p:nvSpPr>
        <p:spPr>
          <a:xfrm>
            <a:off x="1785960" y="4286160"/>
            <a:ext cx="5715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比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增产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9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吨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1285920" y="1843200"/>
          <a:ext cx="6095880" cy="13716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份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6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7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数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720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000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产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吨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60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0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2"/>
          <p:cNvSpPr/>
          <p:nvPr/>
        </p:nvSpPr>
        <p:spPr>
          <a:xfrm>
            <a:off x="2500200" y="3500280"/>
            <a:ext cx="3571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它们的比值相等吗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69" name="Rectangle 2"/>
          <p:cNvSpPr/>
          <p:nvPr/>
        </p:nvSpPr>
        <p:spPr>
          <a:xfrm>
            <a:off x="857160" y="714240"/>
            <a:ext cx="771552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某养蚕专业村养蚕情况如下表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量与产量是成正比例的量吗？为什么？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2786040" y="4071960"/>
            <a:ext cx="3286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7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sp>
        <p:nvSpPr>
          <p:cNvPr id="1071" name="Rectangle 2"/>
          <p:cNvSpPr/>
          <p:nvPr/>
        </p:nvSpPr>
        <p:spPr>
          <a:xfrm>
            <a:off x="1643040" y="5143680"/>
            <a:ext cx="6858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两个年份数量与产量的比值相等，所以数量与产量是成正比例的量。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1500120" y="1643040"/>
          <a:ext cx="6096240" cy="1371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年份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6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7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数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张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720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000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产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吨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60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0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3" name="Rectangle 2"/>
          <p:cNvSpPr/>
          <p:nvPr/>
        </p:nvSpPr>
        <p:spPr>
          <a:xfrm>
            <a:off x="2786040" y="4643280"/>
            <a:ext cx="3286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</a:t>
            </a:r>
            <a:endParaRPr b="1" lang="en-US" sz="2800" spc="-1" strike="noStrike">
              <a:solidFill>
                <a:srgbClr val="ff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6:16:08Z</dcterms:created>
  <dc:creator/>
  <dc:description/>
  <cp:keywords/>
  <dc:language>en-US</dc:language>
  <cp:lastModifiedBy/>
  <dcterms:modified xsi:type="dcterms:W3CDTF">2017-12-21T14:10:35Z</dcterms:modified>
  <cp:revision>1</cp:revision>
  <dc:subject/>
  <dc:title/>
</cp:coreProperties>
</file>